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7CB-C63B-403A-9EBA-119C08F4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289-F3CB-47AC-96CD-4692D51B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7F6-3E66-4994-8330-775DEA33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683-EB58-4E0A-9252-599B9357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B75-75B5-4531-8FB1-36F53E64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671-1DEF-4D56-8C10-915CDBF1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5B0-DEBC-4718-96FE-4AD37AA5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99B-CF5B-4682-939B-875C402F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4D8-2F2F-4973-B781-8A5405F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2D7-F52A-4962-ABA7-F20487D3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272-B8EF-4235-A744-2202A622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404-0416-4344-A8E9-B25FBCA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9D68-A141-4F69-9DBF-D3F86A9CE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eb.mit.edu/invent/iow/colt.html" TargetMode="External"/><Relationship Id="rId4" Type="http://schemas.openxmlformats.org/officeDocument/2006/relationships/hyperlink" Target="http://web.mit.edu/invent/iow/colt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758f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434340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8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1600200"/>
            <a:ext cx="6400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lt Revolver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758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Samuel C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uel Colt was born on July 19, 1814, in Hartford Connecti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boy Sam helped his father at his silk and woolens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was talented with machinery at a young 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et up a arm’s shop in 1837, in Paterson N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58f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lt Revo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apon contained a revolving cylinder that could hold 6 bull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apon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ts ki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t revolver as used in the Mexican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36 Colt received the U.S. patent for his weap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58f9"/>
            </a:gs>
            <a:gs pos="50000">
              <a:srgbClr val="000000"/>
            </a:gs>
            <a:gs pos="100000">
              <a:srgbClr val="0758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olt"/>
          <p:cNvPicPr/>
          <p:nvPr/>
        </p:nvPicPr>
        <p:blipFill>
          <a:blip r:embed="rId1"/>
          <a:stretch/>
        </p:blipFill>
        <p:spPr>
          <a:xfrm>
            <a:off x="533520" y="762120"/>
            <a:ext cx="2514600" cy="291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Colt"/>
          <p:cNvPicPr/>
          <p:nvPr/>
        </p:nvPicPr>
        <p:blipFill>
          <a:blip r:embed="rId2"/>
          <a:srcRect l="28892" t="0" r="0" b="-851"/>
          <a:stretch/>
        </p:blipFill>
        <p:spPr>
          <a:xfrm>
            <a:off x="3886200" y="2895480"/>
            <a:ext cx="4572000" cy="221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8862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uel Co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 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eb.mit.edu/invent/iow/col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t Revolv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March ,9 ,2010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colt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39:08Z</dcterms:created>
  <dc:creator>install</dc:creator>
  <dc:description/>
  <dc:language>en-US</dc:language>
  <cp:lastModifiedBy>install</cp:lastModifiedBy>
  <dcterms:modified xsi:type="dcterms:W3CDTF">2010-03-22T16:06:12Z</dcterms:modified>
  <cp:revision>9</cp:revision>
  <dc:subject/>
  <dc:title>Slide 1</dc:title>
</cp:coreProperties>
</file>